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E51-83B2-49FF-941B-92AAAA55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060-6450-4DA8-8718-451770F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10E-BE41-48A3-8306-52BA28C6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138-DA51-4255-8FD6-F5CB07A6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A0E-5A35-4D0A-A803-E3B8F2F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153-480F-47B6-8AC3-B8590D9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45A-EA35-4E71-BC0B-779A9E8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FEC-4D1D-4E26-99B1-BC865292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6B3-39F5-4F98-8688-5E87ACD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6F0-0442-40F2-9433-DCFB595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3B5-1A4E-48F9-BDE1-C0CC646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4A2-7A72-4FE0-8F6D-DE2EC65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C7A2-7956-470A-9E9C-2850C87B4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upc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January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February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733920" y="586584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CI/CprE/ComS 575X: Computational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owa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right ©  Alexander Stoytc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Like the Sample Ima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" y="19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web page to create your own license plat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cme.com/licensemaker/licensemaker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ubmit (for part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original images, your result images, and your code on the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must work on at least five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either matlab or OpenCV for part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rade will not depend on the method and/or platform that you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12189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t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thematical Morp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5840" y="1165320"/>
            <a:ext cx="91137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reading barco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read the following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upc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Download the five sample barcode images from the class web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06440" y="187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Write code that reads the barcode from the image and prints its 12 digits on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this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arcode by interpreting the vertic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arcode by recognizing the human readable digits with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reading barco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code Examp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imple ca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5920" y="2241720"/>
            <a:ext cx="3773520" cy="281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641840" y="2133720"/>
            <a:ext cx="44006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2640" y="18900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code Examp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you will get extra credit if your code can work with any one of the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96252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barcode_3"/>
          <p:cNvPicPr/>
          <p:nvPr/>
        </p:nvPicPr>
        <p:blipFill>
          <a:blip r:embed="rId2"/>
          <a:stretch/>
        </p:blipFill>
        <p:spPr>
          <a:xfrm>
            <a:off x="725400" y="2606760"/>
            <a:ext cx="2981520" cy="163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rcode_4"/>
          <p:cNvPicPr/>
          <p:nvPr/>
        </p:nvPicPr>
        <p:blipFill>
          <a:blip r:embed="rId3"/>
          <a:stretch/>
        </p:blipFill>
        <p:spPr>
          <a:xfrm>
            <a:off x="903240" y="4724280"/>
            <a:ext cx="2600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ubmit (for 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original barcode images, your result images, and your code on the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must work on at least two bar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ample barcode images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for you then scan some barcodes and use them inste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either matlab or OpenCV for part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rade will not depend on the method and/or platform that you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3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cense Plat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rite a program that finds the occurrence of the numb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 image of car license pl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odify your program to find the occurrences of all numbers 0-9 in an image of a license plate. Letters can be sk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will be evaluated with images of the same type (i.e., Iowa license p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License Pl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osted on the class web pag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late_01"/>
          <p:cNvPicPr/>
          <p:nvPr/>
        </p:nvPicPr>
        <p:blipFill>
          <a:blip r:embed="rId1"/>
          <a:stretch/>
        </p:blipFill>
        <p:spPr>
          <a:xfrm>
            <a:off x="3657600" y="15238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plate_02"/>
          <p:cNvPicPr/>
          <p:nvPr/>
        </p:nvPicPr>
        <p:blipFill>
          <a:blip r:embed="rId2"/>
          <a:stretch/>
        </p:blipFill>
        <p:spPr>
          <a:xfrm>
            <a:off x="91440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plate_03"/>
          <p:cNvPicPr/>
          <p:nvPr/>
        </p:nvPicPr>
        <p:blipFill>
          <a:blip r:embed="rId3"/>
          <a:stretch/>
        </p:blipFill>
        <p:spPr>
          <a:xfrm>
            <a:off x="358128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late_04"/>
          <p:cNvPicPr/>
          <p:nvPr/>
        </p:nvPicPr>
        <p:blipFill>
          <a:blip r:embed="rId4"/>
          <a:stretch/>
        </p:blipFill>
        <p:spPr>
          <a:xfrm>
            <a:off x="640080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late_05"/>
          <p:cNvPicPr/>
          <p:nvPr/>
        </p:nvPicPr>
        <p:blipFill>
          <a:blip r:embed="rId5"/>
          <a:stretch/>
        </p:blipFill>
        <p:spPr>
          <a:xfrm>
            <a:off x="914400" y="51814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plate_06"/>
          <p:cNvPicPr/>
          <p:nvPr/>
        </p:nvPicPr>
        <p:blipFill>
          <a:blip r:embed="rId6"/>
          <a:stretch/>
        </p:blipFill>
        <p:spPr>
          <a:xfrm>
            <a:off x="3657600" y="5105520"/>
            <a:ext cx="1905120" cy="97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plate_07"/>
          <p:cNvPicPr/>
          <p:nvPr/>
        </p:nvPicPr>
        <p:blipFill>
          <a:blip r:embed="rId7"/>
          <a:stretch/>
        </p:blipFill>
        <p:spPr>
          <a:xfrm>
            <a:off x="6400800" y="5181480"/>
            <a:ext cx="190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42:36Z</dcterms:created>
  <dc:creator>Alex Stoytchev</dc:creator>
  <dc:description/>
  <dc:language>en-US</dc:language>
  <cp:lastModifiedBy>Alexander Stoytchev</cp:lastModifiedBy>
  <dcterms:modified xsi:type="dcterms:W3CDTF">2015-01-27T22:56:25Z</dcterms:modified>
  <cp:revision>18</cp:revision>
  <dc:subject/>
  <dc:title>Slide 1</dc:title>
</cp:coreProperties>
</file>